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E17A-FAFC-4A00-BFF5-791D89F9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C61-5C2E-4862-9C25-CD7AED6B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B497-78BC-49D8-958A-2855276F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4B72-BD97-4974-8459-A7153EE0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02D7-6075-419E-B56A-6A8C7E31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B45D-4DA5-40AA-AEDF-BBFD9270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9416-1D0B-4928-A639-AC6EF347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91F4-EE3C-4E8D-B449-F0E1E5DE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3321-C285-453A-AFCE-026187EE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17E9-010C-4E0C-8A68-4AD33922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5600-9428-4ED3-9111-1DD8B0C6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E70-E04A-4EEB-9497-0B388197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7388-7370-43DC-B3F2-14B7A38E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2D11-2CC8-47C3-B381-23308D64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CFEF-18F1-41E0-BC33-BEF0AB3B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734F-6EDD-42B3-BA37-C9C86D6E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EAA6-C76E-4329-90BD-8249E29E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76A-17E4-447A-83B0-52E21423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D81-BAF0-4896-ADAA-B327E869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65B3-CEF8-4540-A1AD-4E8E2436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5A2-B067-4F26-A96E-AAAF1820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E87E-6315-4B97-A670-2CEBEB60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1B4-1ED4-44B1-AEED-47AF6C0F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79E-0790-4BC0-8F95-B1EC9EE1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1F8F-9092-4B9B-B62B-03971C06202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089B-F8B0-47A8-96BC-6BD0C6B14FA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My Future Deca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Kayla Angl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your job look in ten year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ill be in the prime of my career in tha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am interested in peeking into the fu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be I have chosen a job you have as wel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have chosen three careers I may 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gistered Nur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8 – 2,619 Jo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18 – 3,200 Jo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ce – 582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2% Increa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stered Nurses make up 81% of the increasing jo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43400" y="1066680"/>
          <a:ext cx="7162920" cy="42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066680"/>
                    <a:ext cx="716292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594320" y="4343400"/>
          <a:ext cx="4549680" cy="303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4320" y="4343400"/>
                    <a:ext cx="454968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urse Aid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8 – 1,4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18 – 1,74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ce – 2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% Incr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rse Aides take up 20% of the increasing jo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181480" y="1219320"/>
          <a:ext cx="586764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219320"/>
                    <a:ext cx="586764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670280" y="4038480"/>
          <a:ext cx="4473720" cy="298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70280" y="4038480"/>
                    <a:ext cx="4473720" cy="29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mputer Software Engine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08 – 5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18 – 69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ce – 1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4% Incr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r Software Engineers make up 72% of the increasing jo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724280" y="1066680"/>
          <a:ext cx="6477120" cy="35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66680"/>
                    <a:ext cx="6477120" cy="35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648320" y="4076640"/>
          <a:ext cx="4168800" cy="27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076640"/>
                    <a:ext cx="41688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o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ree jobs I hoped in pursuing will have amazing grow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End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8:58:58Z</dcterms:created>
  <dc:creator>Kayla</dc:creator>
  <dc:description/>
  <dc:language>en-US</dc:language>
  <cp:lastModifiedBy>Kayla</cp:lastModifiedBy>
  <dcterms:modified xsi:type="dcterms:W3CDTF">2010-03-11T17:54:41Z</dcterms:modified>
  <cp:revision>4</cp:revision>
  <dc:subject/>
  <dc:title>Future Decade</dc:title>
</cp:coreProperties>
</file>